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F4F-227D-4676-999D-6564E56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3D5-8643-4C6C-9FF9-FE714E93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20E-E821-48E1-8FF0-39550BD2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E27-36BA-427E-9D6F-882FDCC7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669-0D86-43C7-B652-061022D9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8C5F-4339-4AB2-8CCB-6714D2B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788-FB23-486B-A131-EBB1F077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256-0FB8-4678-BFC7-6670AFA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AA8A-7E3D-4869-A0BD-4A4627D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71C-9152-4951-A3E6-B8B174B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6FEF-7F30-44A0-B2EF-0140844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C09-6FDF-4B09-9714-963A102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D24D-4F0D-45DE-AF02-B6662EC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4ECD-E9D4-4815-9D70-B6BDE7E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06F-DAA5-4E5D-BC47-C40FE1F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C72-8F02-4684-90D2-3DD0D48C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B44B-3C01-4C82-A586-06FFF18C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576-86D8-44B0-9DB8-4E34980A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F73-4793-4B00-9FED-8241F8F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A0A-4D9A-4352-8A68-2CBB05F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130-E46C-4218-9235-FCCB3F5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360-6521-4DFE-A522-C01EC3B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BF7-BFC0-4810-8E35-AA59CC54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F89-B055-4F13-BE77-966824A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A55-30EB-451D-9EFA-1183CADBC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176F-5431-4327-A64C-693F756823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flickr.com/36/93871183_28e3835b7e.jpg&amp;imgrefurl=http://olduvaigeorge.com/2006/02/&amp;usg=__flLVXjRzs9ISDN_sYI8KR4U67Sw=&amp;h=437&amp;w=500&amp;sz=151&amp;hl=en&amp;start=16&amp;um=1&amp;tbnid=if7_sdsY3MNwlM:&amp;tbnh=114&amp;tbnw=130&amp;prev=/images%3Fq%3Dconvergent%2Bevolution%26hl%3Den%26sa%3DN%26um%3D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io.uwinnipeg.ca/~simmons/16cm05/1116/lyell.jpg&amp;imgrefurl=http://io.uwinnipeg.ca/~simmons/16cm05/1116/16evolut.htm&amp;usg=__oGwYcZsTtOnOJjLhk-TE3j1VcOg=&amp;h=436&amp;w=362&amp;sz=121&amp;hl=en&amp;start=3&amp;um=1&amp;tbnid=QWzUZvOhmbT-HM:&amp;tbnh=126&amp;tbnw=105&amp;prev=/images%3Fq%3DCharles%2BLyell%26hl%3Den%26rls%3DDKUS,DKUS:2006-33,DKUS:en%26sa%3DN%26um%3D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aluating Darwin’s Ideas – 3 major streng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fo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gnition that variation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or to Darwin’s theory, species were classified 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on appearance, and ignored variation whi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s a starting point for evo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aluating Darwin’s Ideas – Weakn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variation was important to Darwin’s theory, but he did not have a clear idea of how traits were inherited. He did not have an understanding of gen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roughly 100 years between when Darwin published his theory and the structure of DNA was dis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5/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esterday’s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Selection:  How Do Species Change Over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8769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for tomorrow’s  chapter 16 vocab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udying Evolution at all Sc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880" y="1600200"/>
                <a:ext cx="7937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croevolution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Speciation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Macroevolutio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3048120" y="2057400"/>
            <a:ext cx="2286000" cy="2242800"/>
            <a:chOff x="3048120" y="2057400"/>
            <a:chExt cx="2286000" cy="2242800"/>
          </a:xfrm>
        </p:grpSpPr>
        <p:sp>
          <p:nvSpPr>
            <p:cNvPr id="136" name=""/>
            <p:cNvSpPr/>
            <p:nvPr/>
          </p:nvSpPr>
          <p:spPr>
            <a:xfrm>
              <a:off x="3048120" y="2743200"/>
              <a:ext cx="228600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ormation of new species as a result of ev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2057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791320" y="2057400"/>
            <a:ext cx="2286000" cy="2242800"/>
            <a:chOff x="5791320" y="2057400"/>
            <a:chExt cx="2286000" cy="2242800"/>
          </a:xfrm>
        </p:grpSpPr>
        <p:sp>
          <p:nvSpPr>
            <p:cNvPr id="139" name=""/>
            <p:cNvSpPr/>
            <p:nvPr/>
          </p:nvSpPr>
          <p:spPr>
            <a:xfrm>
              <a:off x="5791320" y="2743200"/>
              <a:ext cx="228600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appearance of new species over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4320" y="2057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0880" y="2057400"/>
            <a:ext cx="2286000" cy="4068720"/>
            <a:chOff x="380880" y="2057400"/>
            <a:chExt cx="2286000" cy="4068720"/>
          </a:xfrm>
        </p:grpSpPr>
        <p:grpSp>
          <p:nvGrpSpPr>
            <p:cNvPr id="142" name=""/>
            <p:cNvGrpSpPr/>
            <p:nvPr/>
          </p:nvGrpSpPr>
          <p:grpSpPr>
            <a:xfrm>
              <a:off x="380880" y="2057400"/>
              <a:ext cx="2286000" cy="1877040"/>
              <a:chOff x="380880" y="2057400"/>
              <a:chExt cx="2286000" cy="1877040"/>
            </a:xfrm>
          </p:grpSpPr>
          <p:sp>
            <p:nvSpPr>
              <p:cNvPr id="143" name=""/>
              <p:cNvSpPr/>
              <p:nvPr/>
            </p:nvSpPr>
            <p:spPr>
              <a:xfrm>
                <a:off x="380880" y="2743200"/>
                <a:ext cx="2286000" cy="119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ange in the genes of a popul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3880" y="20574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3520" y="4419720"/>
              <a:ext cx="2133360" cy="170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The Evolution of Man"/>
          <p:cNvPicPr/>
          <p:nvPr/>
        </p:nvPicPr>
        <p:blipFill>
          <a:blip r:embed="rId2"/>
          <a:srcRect l="0" t="0" r="12324" b="0"/>
          <a:stretch/>
        </p:blipFill>
        <p:spPr>
          <a:xfrm>
            <a:off x="3276720" y="4495680"/>
            <a:ext cx="4633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croevolution vs. Macroevol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2480" r="0" b="0"/>
          <a:stretch/>
        </p:blipFill>
        <p:spPr>
          <a:xfrm>
            <a:off x="1981080" y="1219320"/>
            <a:ext cx="46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sses of Microevolution (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andom or through sexu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s and types of alleles can change from generation to generation although it 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Genetic drift"/>
          <p:cNvPicPr/>
          <p:nvPr/>
        </p:nvPicPr>
        <p:blipFill>
          <a:blip r:embed="rId1"/>
          <a:srcRect l="0" t="13874" r="0" b="0"/>
          <a:stretch/>
        </p:blipFill>
        <p:spPr>
          <a:xfrm>
            <a:off x="3048120" y="4343400"/>
            <a:ext cx="340020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57135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rift affects genetic makeup of the population through an entirely random process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tterns of Macroevolution (6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gent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volution is strongly directed by the environment, species living in a similar environment should evolve similar adap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that share an environment can affect each others evolution.  They develop adaptations to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3880"/>
            <a:ext cx="2286000" cy="200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2143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tterns of Macroevolution Co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splint into two or more lines of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6000" r="0" b="6000"/>
          <a:stretch/>
        </p:blipFill>
        <p:spPr>
          <a:xfrm>
            <a:off x="4876920" y="1447920"/>
            <a:ext cx="3990960" cy="2552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3962520"/>
            <a:ext cx="868680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hanges occur graduall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pecies suddenly appear after some environment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dualism vs. Punctuated Equilibri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465200"/>
            <a:ext cx="6705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5/21/0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 beaks of the finches that Darwin observed on the Galapagos Islands different on different isl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5627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 (due Fri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ding “Developing a The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veloping a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by which species chang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Darwin was responsible for developing the moder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876920"/>
            <a:ext cx="73915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ad explanation that has been scientif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and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91520" y="2362320"/>
            <a:ext cx="121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Types of Se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fici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can choose what traits are favorable in a species and breed plants and animals to have thes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individuals that are better adapted to their environment survive and reproduce more successfully than those that are less adapted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4648320"/>
            <a:ext cx="17528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Types of Selection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olutionary process by which a mate is chosen on the basis of a particular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4625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’s Who You Know and What They Kn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came up with the theory of evolution based on his observations and those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each organism is usually well adapted to its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798,Malthus observed that human food supply was increasing at a slower pace than the human population and hypothesized that many humans would die off due to disease, war and fa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y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ist that though that processes such as erosion and the formation of fossils was gradual and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779760" cy="94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642960" cy="843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257800"/>
            <a:ext cx="746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olution by Natural Se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’s theory predicts that over time, the number of individuals that carry advantageous traits will increase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1  Over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population is capable of producing more offspring than can possibly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exists in every population in the form of inherited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raits one individual is more likely to survive than another and repro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those traits that improve the survival and reproduction will become more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5/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at giraffes evolved to have long necks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lective pressure that caused this change to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5627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for Chapter 16 Vocab Quiz (Friday, 5/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191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 Selective pressure is any phenomena which alters the behavior and fitness of living organisms within a given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2000" t="0" r="16801" b="0"/>
          <a:stretch/>
        </p:blipFill>
        <p:spPr>
          <a:xfrm>
            <a:off x="7162920" y="3352680"/>
            <a:ext cx="173484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win – The Origen of Species by 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presents evidence of evolution from multiple fields of science, where some species of animals have commo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Fossil Recor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fossils or traces of living things from the p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ge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the location of organisms around the wor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mental Bi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evelopment of organisms from embry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bodily structure of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chemistr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biomolecules such as amino acids and D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2:06:26Z</dcterms:created>
  <dc:creator>Dawn Pav</dc:creator>
  <dc:description/>
  <dc:language>en-US</dc:language>
  <cp:lastModifiedBy>udsd</cp:lastModifiedBy>
  <dcterms:modified xsi:type="dcterms:W3CDTF">2009-05-28T12:38:03Z</dcterms:modified>
  <cp:revision>7</cp:revision>
  <dc:subject/>
  <dc:title>Chapter 16</dc:title>
</cp:coreProperties>
</file>